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772400" cy="10058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7536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18840" y="235332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84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7536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118840" y="5400360"/>
            <a:ext cx="2252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72600" y="540036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844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72600" y="2353320"/>
            <a:ext cx="341316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8440" y="5400360"/>
            <a:ext cx="6994800" cy="27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8440" y="2353320"/>
            <a:ext cx="6994800" cy="58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187200" y="198360"/>
            <a:ext cx="7508880" cy="9631440"/>
            <a:chOff x="187200" y="198360"/>
            <a:chExt cx="7508880" cy="9631440"/>
          </a:xfrm>
        </p:grpSpPr>
        <p:sp>
          <p:nvSpPr>
            <p:cNvPr id="40" name=""/>
            <p:cNvSpPr/>
            <p:nvPr/>
          </p:nvSpPr>
          <p:spPr>
            <a:xfrm>
              <a:off x="228600" y="228600"/>
              <a:ext cx="4419720" cy="533520"/>
            </a:xfrm>
            <a:prstGeom prst="rect">
              <a:avLst/>
            </a:prstGeom>
            <a:blipFill rotWithShape="0">
              <a:blip r:embed="rId1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28600" y="762120"/>
              <a:ext cx="7315200" cy="1447920"/>
            </a:xfrm>
            <a:prstGeom prst="rect">
              <a:avLst/>
            </a:prstGeom>
            <a:blipFill rotWithShape="0">
              <a:blip r:embed="rId2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28600" y="2200320"/>
              <a:ext cx="3657600" cy="2209680"/>
            </a:xfrm>
            <a:prstGeom prst="rect">
              <a:avLst/>
            </a:prstGeom>
            <a:blipFill rotWithShape="0">
              <a:blip r:embed="rId3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4419720"/>
              <a:ext cx="3657600" cy="1143000"/>
            </a:xfrm>
            <a:prstGeom prst="rect">
              <a:avLst/>
            </a:prstGeom>
            <a:blipFill rotWithShape="0">
              <a:blip r:embed="rId4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86200" y="4419720"/>
              <a:ext cx="3657600" cy="1143000"/>
            </a:xfrm>
            <a:prstGeom prst="rect">
              <a:avLst/>
            </a:prstGeom>
            <a:blipFill rotWithShape="0">
              <a:blip r:embed="rId5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8600" y="7620120"/>
              <a:ext cx="3657600" cy="2209680"/>
            </a:xfrm>
            <a:prstGeom prst="rect">
              <a:avLst/>
            </a:prstGeom>
            <a:blipFill rotWithShape="0">
              <a:blip r:embed="rId6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86200" y="7620120"/>
              <a:ext cx="3657600" cy="2209680"/>
            </a:xfrm>
            <a:prstGeom prst="rect">
              <a:avLst/>
            </a:prstGeom>
            <a:blipFill rotWithShape="0">
              <a:blip r:embed="rId7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212760" y="223920"/>
              <a:ext cx="4535640" cy="490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31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rac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31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ign.                   Race                   Class                    Level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40644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11360" y="6094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752480" y="609480"/>
              <a:ext cx="60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2819520" y="6094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962520" y="6094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212760" y="757080"/>
              <a:ext cx="7483320" cy="13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31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yer’s Name                                                                        Family                               Race/Cl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31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meland                                                                               Liege/Patron                     Relig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31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x                 Age                 Social Class                                                                         Stat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31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.                  Wt.                 Birth Rank                                                                          # Sibl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31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ir               Eyes               Appear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31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nor                               (Base Honor                                )  Reaction Adjust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44520" y="927000"/>
              <a:ext cx="261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77760" y="11430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4280" y="13572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84280" y="157176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2440" y="1784520"/>
              <a:ext cx="495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6560" y="2006640"/>
              <a:ext cx="1079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17640" y="2006640"/>
              <a:ext cx="1079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60840" y="200664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57680" y="1784520"/>
              <a:ext cx="4597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86080" y="13572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86080" y="157176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3880" y="178452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7680" y="1569960"/>
              <a:ext cx="2730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7680" y="1355760"/>
              <a:ext cx="27302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51360" y="114300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33840" y="9270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350040" y="1571760"/>
              <a:ext cx="11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72200" y="13572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11880" y="11430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00800" y="9270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380880" y="2462040"/>
              <a:ext cx="304920" cy="1825920"/>
              <a:chOff x="380880" y="2462040"/>
              <a:chExt cx="304920" cy="1825920"/>
            </a:xfrm>
          </p:grpSpPr>
          <p:sp>
            <p:nvSpPr>
              <p:cNvPr id="75" name=""/>
              <p:cNvSpPr/>
              <p:nvPr/>
            </p:nvSpPr>
            <p:spPr>
              <a:xfrm>
                <a:off x="380880" y="2462040"/>
                <a:ext cx="30492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0880" y="2687760"/>
                <a:ext cx="30492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80880" y="2916360"/>
                <a:ext cx="30492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80880" y="3144960"/>
                <a:ext cx="30492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80880" y="3373560"/>
                <a:ext cx="30492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0880" y="3602160"/>
                <a:ext cx="30492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80880" y="3830760"/>
                <a:ext cx="30492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80880" y="4059360"/>
                <a:ext cx="30492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82560" y="2446200"/>
              <a:ext cx="557280" cy="1865520"/>
              <a:chOff x="682560" y="2446200"/>
              <a:chExt cx="557280" cy="1865520"/>
            </a:xfrm>
          </p:grpSpPr>
          <p:sp>
            <p:nvSpPr>
              <p:cNvPr id="84" name=""/>
              <p:cNvSpPr txBox="1"/>
              <p:nvPr/>
            </p:nvSpPr>
            <p:spPr>
              <a:xfrm>
                <a:off x="682560" y="2446200"/>
                <a:ext cx="4809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T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682560" y="266544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E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 txBox="1"/>
              <p:nvPr/>
            </p:nvSpPr>
            <p:spPr>
              <a:xfrm>
                <a:off x="682560" y="2894040"/>
                <a:ext cx="5223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682560" y="3122640"/>
                <a:ext cx="4557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 txBox="1"/>
              <p:nvPr/>
            </p:nvSpPr>
            <p:spPr>
              <a:xfrm>
                <a:off x="682560" y="3351240"/>
                <a:ext cx="4809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WI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 txBox="1"/>
              <p:nvPr/>
            </p:nvSpPr>
            <p:spPr>
              <a:xfrm>
                <a:off x="682560" y="3579840"/>
                <a:ext cx="5223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682560" y="3808440"/>
                <a:ext cx="5572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 txBox="1"/>
              <p:nvPr/>
            </p:nvSpPr>
            <p:spPr>
              <a:xfrm>
                <a:off x="682560" y="4037040"/>
                <a:ext cx="4888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219320" y="2462040"/>
              <a:ext cx="2527200" cy="1825920"/>
              <a:chOff x="1219320" y="2462040"/>
              <a:chExt cx="2527200" cy="1825920"/>
            </a:xfrm>
          </p:grpSpPr>
          <p:sp>
            <p:nvSpPr>
              <p:cNvPr id="93" name=""/>
              <p:cNvSpPr/>
              <p:nvPr/>
            </p:nvSpPr>
            <p:spPr>
              <a:xfrm>
                <a:off x="1219320" y="2462040"/>
                <a:ext cx="25272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219320" y="2687760"/>
                <a:ext cx="25272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219320" y="2916360"/>
                <a:ext cx="25272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219320" y="3144960"/>
                <a:ext cx="25272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219320" y="3373560"/>
                <a:ext cx="25272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219320" y="3602160"/>
                <a:ext cx="25272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219320" y="3830760"/>
                <a:ext cx="25272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219320" y="4059360"/>
                <a:ext cx="25272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 txBox="1"/>
            <p:nvPr/>
          </p:nvSpPr>
          <p:spPr>
            <a:xfrm>
              <a:off x="1576440" y="21798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IL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4635360" y="198360"/>
              <a:ext cx="2922480" cy="56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VANCED DUNGEONS &amp; DRAG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nd Edi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YER CHARACTER REC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38480" y="4495680"/>
              <a:ext cx="1066680" cy="99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05520" y="4495680"/>
              <a:ext cx="2362320" cy="99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038480" y="4465800"/>
              <a:ext cx="1068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T POI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5110200" y="4465800"/>
              <a:ext cx="727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ou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5778360" y="2179800"/>
              <a:ext cx="1676520" cy="2112840"/>
              <a:chOff x="5778360" y="2179800"/>
              <a:chExt cx="1676520" cy="2112840"/>
            </a:xfrm>
          </p:grpSpPr>
          <p:sp>
            <p:nvSpPr>
              <p:cNvPr id="108" name=""/>
              <p:cNvSpPr txBox="1"/>
              <p:nvPr/>
            </p:nvSpPr>
            <p:spPr>
              <a:xfrm>
                <a:off x="5865840" y="2179800"/>
                <a:ext cx="15019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AVING THROW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78360" y="2463840"/>
                <a:ext cx="1676520" cy="1828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5886360" y="2698920"/>
                <a:ext cx="381240" cy="1396800"/>
                <a:chOff x="5886360" y="2698920"/>
                <a:chExt cx="381240" cy="1396800"/>
              </a:xfrm>
            </p:grpSpPr>
            <p:sp>
              <p:nvSpPr>
                <p:cNvPr id="111" name=""/>
                <p:cNvSpPr/>
                <p:nvPr/>
              </p:nvSpPr>
              <p:spPr>
                <a:xfrm flipH="1">
                  <a:off x="5886360" y="2698920"/>
                  <a:ext cx="38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5886360" y="3048120"/>
                  <a:ext cx="38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5886360" y="3397320"/>
                  <a:ext cx="38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>
                  <a:off x="5886360" y="3746520"/>
                  <a:ext cx="38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5886360" y="4095720"/>
                  <a:ext cx="38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"/>
              <p:cNvSpPr txBox="1"/>
              <p:nvPr/>
            </p:nvSpPr>
            <p:spPr>
              <a:xfrm>
                <a:off x="6397560" y="3963960"/>
                <a:ext cx="43812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pell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6321600" y="2452680"/>
                <a:ext cx="59040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aralyze/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ois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6292800" y="2795760"/>
                <a:ext cx="64944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od, Staff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r W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>
                <a:off x="6281640" y="3138480"/>
                <a:ext cx="669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etrify/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olymorp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>
                <a:off x="6343560" y="3494160"/>
                <a:ext cx="54612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reath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Weap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6973920" y="2698920"/>
                <a:ext cx="380880" cy="1396800"/>
                <a:chOff x="6973920" y="2698920"/>
                <a:chExt cx="380880" cy="1396800"/>
              </a:xfrm>
            </p:grpSpPr>
            <p:sp>
              <p:nvSpPr>
                <p:cNvPr id="122" name=""/>
                <p:cNvSpPr/>
                <p:nvPr/>
              </p:nvSpPr>
              <p:spPr>
                <a:xfrm flipH="1">
                  <a:off x="6973920" y="269892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>
                  <a:off x="6973920" y="304812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6973920" y="339732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6973920" y="374652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6973920" y="409572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"/>
              <p:cNvSpPr txBox="1"/>
              <p:nvPr/>
            </p:nvSpPr>
            <p:spPr>
              <a:xfrm>
                <a:off x="5792760" y="4052880"/>
                <a:ext cx="56844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odifi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 txBox="1"/>
              <p:nvPr/>
            </p:nvSpPr>
            <p:spPr>
              <a:xfrm>
                <a:off x="6970680" y="4052880"/>
                <a:ext cx="38736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av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 txBox="1"/>
            <p:nvPr/>
          </p:nvSpPr>
          <p:spPr>
            <a:xfrm>
              <a:off x="1179360" y="2441520"/>
              <a:ext cx="32868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b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1560600" y="2441520"/>
              <a:ext cx="33660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m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j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1941480" y="2441520"/>
              <a:ext cx="37476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g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low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2398680" y="2441520"/>
              <a:ext cx="34452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x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s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855880" y="2441520"/>
              <a:ext cx="29376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r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3236760" y="2441520"/>
              <a:ext cx="30636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B/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1179360" y="2670120"/>
              <a:ext cx="32868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ct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j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017800" y="2670120"/>
              <a:ext cx="41436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ssil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t Adj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2932200" y="2670120"/>
              <a:ext cx="29844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j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1179360" y="2898720"/>
              <a:ext cx="29844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P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j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1636560" y="2898720"/>
              <a:ext cx="30312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y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k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2093760" y="2898720"/>
              <a:ext cx="29844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2550960" y="2898720"/>
              <a:ext cx="33192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i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3008160" y="2898720"/>
              <a:ext cx="37944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e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1179360" y="3127320"/>
              <a:ext cx="36036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 of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1636560" y="3127320"/>
              <a:ext cx="35712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l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v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2093760" y="3127320"/>
              <a:ext cx="34128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r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l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2550960" y="3127320"/>
              <a:ext cx="39204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lls/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v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3008160" y="3127320"/>
              <a:ext cx="40464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l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mu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1179360" y="3355920"/>
              <a:ext cx="45720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g Def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ju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1789200" y="3355920"/>
              <a:ext cx="37944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nu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ll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2322360" y="3355920"/>
              <a:ext cx="34128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l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ai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2932200" y="3355920"/>
              <a:ext cx="40464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l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mu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1179360" y="3584520"/>
              <a:ext cx="43668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x N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ench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017800" y="3584520"/>
              <a:ext cx="33192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2932200" y="3584520"/>
              <a:ext cx="32868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ct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j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1179360" y="3813120"/>
              <a:ext cx="36684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1800" y="4648320"/>
              <a:ext cx="686160" cy="616320"/>
            </a:xfrm>
            <a:custGeom>
              <a:avLst/>
              <a:gdLst/>
              <a:ahLst/>
              <a:rect l="0" t="0" r="r" b="b"/>
              <a:pathLst>
                <a:path fill="none" w="1906" h="1712">
                  <a:moveTo>
                    <a:pt x="1906" y="0"/>
                  </a:moveTo>
                  <a:lnTo>
                    <a:pt x="1334" y="1712"/>
                  </a:lnTo>
                  <a:lnTo>
                    <a:pt x="571" y="1712"/>
                  </a:lnTo>
                  <a:lnTo>
                    <a:pt x="0" y="0"/>
                  </a:lnTo>
                  <a:lnTo>
                    <a:pt x="190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0680" y="5095800"/>
              <a:ext cx="428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525600" y="5089680"/>
              <a:ext cx="360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050840" y="4564080"/>
              <a:ext cx="2308320" cy="78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31"/>
                </a:spcBef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justed AC         Armor Type (Piece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31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rpris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31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ieldl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31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380880" y="5288040"/>
              <a:ext cx="657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ens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76400" y="5438880"/>
              <a:ext cx="2705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90600" y="4896000"/>
              <a:ext cx="1590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14680" y="4896000"/>
              <a:ext cx="37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14680" y="5076720"/>
              <a:ext cx="371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47920" y="5257800"/>
              <a:ext cx="63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90600" y="5076720"/>
              <a:ext cx="1590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90600" y="5257800"/>
              <a:ext cx="1590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3089160" y="5608800"/>
              <a:ext cx="1593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PON COMB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66760" y="6006960"/>
              <a:ext cx="7238880" cy="914400"/>
              <a:chOff x="266760" y="6006960"/>
              <a:chExt cx="7238880" cy="91440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266760" y="6006960"/>
                <a:ext cx="7238880" cy="152280"/>
                <a:chOff x="266760" y="6006960"/>
                <a:chExt cx="7238880" cy="1522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66760" y="600696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409760" y="6006960"/>
                  <a:ext cx="30492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857680" y="6006960"/>
                  <a:ext cx="53352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676840" y="600696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714680" y="600696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134040" y="600696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591240" y="600696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048440" y="600696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90840" y="600696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533840" y="600696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266760" y="6159600"/>
                <a:ext cx="7238880" cy="152280"/>
                <a:chOff x="266760" y="6159600"/>
                <a:chExt cx="7238880" cy="1522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266760" y="615960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409760" y="6159600"/>
                  <a:ext cx="30492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57680" y="6159600"/>
                  <a:ext cx="53352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676840" y="615960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714680" y="615960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134040" y="615960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591240" y="615960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048440" y="615960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390840" y="615960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533840" y="615960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266760" y="6311880"/>
                <a:ext cx="7238880" cy="152280"/>
                <a:chOff x="266760" y="6311880"/>
                <a:chExt cx="7238880" cy="1522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66760" y="631188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409760" y="6311880"/>
                  <a:ext cx="30492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857680" y="6311880"/>
                  <a:ext cx="53352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676840" y="631188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714680" y="631188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134040" y="631188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591240" y="631188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048440" y="631188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390840" y="631188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533840" y="631188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66760" y="6464160"/>
                <a:ext cx="7238880" cy="152280"/>
                <a:chOff x="266760" y="6464160"/>
                <a:chExt cx="7238880" cy="1522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266760" y="646416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409760" y="6464160"/>
                  <a:ext cx="30492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857680" y="6464160"/>
                  <a:ext cx="53352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676840" y="646416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714680" y="646416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4040" y="646416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591240" y="646416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048440" y="646416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390840" y="646416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533840" y="646416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66760" y="6616800"/>
                <a:ext cx="7238880" cy="152280"/>
                <a:chOff x="266760" y="6616800"/>
                <a:chExt cx="7238880" cy="1522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66760" y="661680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409760" y="6616800"/>
                  <a:ext cx="30492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857680" y="6616800"/>
                  <a:ext cx="53352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676840" y="661680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714680" y="661680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134040" y="661680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591240" y="661680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048440" y="661680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390840" y="661680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533840" y="661680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266760" y="6769080"/>
                <a:ext cx="7238880" cy="152280"/>
                <a:chOff x="266760" y="6769080"/>
                <a:chExt cx="7238880" cy="1522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266760" y="676908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409760" y="6769080"/>
                  <a:ext cx="30492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2857680" y="6769080"/>
                  <a:ext cx="53352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676840" y="676908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714680" y="676908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134040" y="676908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591240" y="676908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048440" y="6769080"/>
                  <a:ext cx="4572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390840" y="676908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533840" y="6769080"/>
                  <a:ext cx="1143000" cy="15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"/>
            <p:cNvSpPr/>
            <p:nvPr/>
          </p:nvSpPr>
          <p:spPr>
            <a:xfrm flipH="1">
              <a:off x="228600" y="571500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648320" y="571500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187200" y="5808600"/>
              <a:ext cx="73166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eapon                      #AT  Attack Adj/Dmg Adj THAC0      Damage (SM/L)                Range               Weight     Size      Type    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187200" y="6926400"/>
              <a:ext cx="1020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al Attac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43000" y="70866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4920" y="7315200"/>
              <a:ext cx="350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920" y="7543800"/>
              <a:ext cx="350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3844800" y="6926400"/>
              <a:ext cx="9176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mmunitio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24280" y="708660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1320" y="70866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91320" y="73152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91320" y="75438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962520" y="7162920"/>
              <a:ext cx="1550880" cy="328680"/>
              <a:chOff x="3962520" y="7162920"/>
              <a:chExt cx="1550880" cy="328680"/>
            </a:xfrm>
          </p:grpSpPr>
          <p:sp>
            <p:nvSpPr>
              <p:cNvPr id="249" name=""/>
              <p:cNvSpPr/>
              <p:nvPr/>
            </p:nvSpPr>
            <p:spPr>
              <a:xfrm>
                <a:off x="3962520" y="71629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114800" y="71629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67080" y="71629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19720" y="71629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72000" y="71629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962520" y="73915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14800" y="73915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267080" y="73915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419720" y="73915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572000" y="73915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00600" y="71629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52880" y="71629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05520" y="71629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257800" y="71629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410080" y="71629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00600" y="73915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952880" y="73915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05520" y="73915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257800" y="73915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410080" y="73915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6781680" y="6986520"/>
              <a:ext cx="713160" cy="557280"/>
              <a:chOff x="6781680" y="6986520"/>
              <a:chExt cx="713160" cy="557280"/>
            </a:xfrm>
          </p:grpSpPr>
          <p:sp>
            <p:nvSpPr>
              <p:cNvPr id="270" name=""/>
              <p:cNvSpPr/>
              <p:nvPr/>
            </p:nvSpPr>
            <p:spPr>
              <a:xfrm>
                <a:off x="6781680" y="69865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934320" y="69865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086600" y="69865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38880" y="69865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391520" y="69865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81680" y="72151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34320" y="72151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86600" y="72151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38880" y="72151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391520" y="72151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781680" y="74437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934320" y="74437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086600" y="74437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238880" y="74437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391520" y="7443720"/>
                <a:ext cx="103320" cy="10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 txBox="1"/>
            <p:nvPr/>
          </p:nvSpPr>
          <p:spPr>
            <a:xfrm>
              <a:off x="187200" y="7586640"/>
              <a:ext cx="10555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ial Abili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04920" y="7924680"/>
              <a:ext cx="3504960" cy="1828800"/>
              <a:chOff x="304920" y="7924680"/>
              <a:chExt cx="3504960" cy="1828800"/>
            </a:xfrm>
          </p:grpSpPr>
          <p:sp>
            <p:nvSpPr>
              <p:cNvPr id="287" name=""/>
              <p:cNvSpPr/>
              <p:nvPr/>
            </p:nvSpPr>
            <p:spPr>
              <a:xfrm>
                <a:off x="304920" y="792468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792468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807732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807732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04920" y="822960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822960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04920" y="838188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838188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4920" y="853452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853452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4920" y="868680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868680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883908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883908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04920" y="899172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899172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20" y="914400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914400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04920" y="929628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929628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04920" y="944892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944892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960120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960120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04920" y="975348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975348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3962520" y="7924680"/>
              <a:ext cx="3504960" cy="1828800"/>
              <a:chOff x="3962520" y="7924680"/>
              <a:chExt cx="3504960" cy="1828800"/>
            </a:xfrm>
          </p:grpSpPr>
          <p:sp>
            <p:nvSpPr>
              <p:cNvPr id="314" name=""/>
              <p:cNvSpPr/>
              <p:nvPr/>
            </p:nvSpPr>
            <p:spPr>
              <a:xfrm>
                <a:off x="3962520" y="792468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791320" y="792468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62520" y="807732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791320" y="807732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62520" y="822960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91320" y="822960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962520" y="838188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91320" y="838188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62520" y="853452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91320" y="853452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962520" y="868680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91320" y="868680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962520" y="883908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1320" y="883908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962520" y="899172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91320" y="899172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62520" y="914400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91320" y="914400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62520" y="929628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791320" y="929628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962520" y="944892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91320" y="944892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962520" y="960120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791320" y="960120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962520" y="975348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91320" y="975348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 txBox="1"/>
            <p:nvPr/>
          </p:nvSpPr>
          <p:spPr>
            <a:xfrm>
              <a:off x="5140440" y="7726320"/>
              <a:ext cx="654120" cy="207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6969240" y="7726320"/>
              <a:ext cx="654120" cy="207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    /    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4797360" y="7586640"/>
              <a:ext cx="18288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ficiencies/Skills/Languag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3946680" y="2179800"/>
              <a:ext cx="1692360" cy="2116080"/>
              <a:chOff x="3946680" y="2179800"/>
              <a:chExt cx="1692360" cy="2116080"/>
            </a:xfrm>
          </p:grpSpPr>
          <p:sp>
            <p:nvSpPr>
              <p:cNvPr id="344" name=""/>
              <p:cNvSpPr/>
              <p:nvPr/>
            </p:nvSpPr>
            <p:spPr>
              <a:xfrm>
                <a:off x="3962520" y="2463840"/>
                <a:ext cx="1676520" cy="1828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 txBox="1"/>
              <p:nvPr/>
            </p:nvSpPr>
            <p:spPr>
              <a:xfrm>
                <a:off x="4243320" y="2179800"/>
                <a:ext cx="111600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092560" y="2540160"/>
                <a:ext cx="45720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5092560" y="289548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5092560" y="311148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5092560" y="355608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5092560" y="375912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5092560" y="397512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5092560" y="419112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5092560" y="332748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 txBox="1"/>
              <p:nvPr/>
            </p:nvSpPr>
            <p:spPr>
              <a:xfrm>
                <a:off x="3946680" y="2509920"/>
                <a:ext cx="1616040" cy="178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1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ase Ra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31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igh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31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od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31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v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31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v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31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Jo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31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u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31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u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 txBox="1"/>
              <p:nvPr/>
            </p:nvSpPr>
            <p:spPr>
              <a:xfrm>
                <a:off x="4314960" y="2712960"/>
                <a:ext cx="819000" cy="156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31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             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31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             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31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             )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31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             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31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    x2     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31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    x3     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31"/>
                  </a:spcBef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    x4     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228600" y="228600"/>
              <a:ext cx="7315200" cy="960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362320" y="2743200"/>
            <a:ext cx="5029200" cy="182880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2743200"/>
            <a:ext cx="1828800" cy="1828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5715000" y="609480"/>
            <a:ext cx="1703520" cy="328680"/>
            <a:chOff x="5715000" y="609480"/>
            <a:chExt cx="1703520" cy="328680"/>
          </a:xfrm>
        </p:grpSpPr>
        <p:sp>
          <p:nvSpPr>
            <p:cNvPr id="360" name=""/>
            <p:cNvSpPr/>
            <p:nvPr/>
          </p:nvSpPr>
          <p:spPr>
            <a:xfrm>
              <a:off x="5715000" y="60948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67280" y="60948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19920" y="60948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72200" y="60948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24480" y="60948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15000" y="83808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67280" y="83808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83808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172200" y="83808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24480" y="83808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05720" y="60948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58000" y="60948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10280" y="60948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62920" y="60948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315200" y="60948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05720" y="83808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58000" y="83808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10280" y="83808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62920" y="83808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15200" y="83808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715000" y="1143000"/>
            <a:ext cx="1703520" cy="328680"/>
            <a:chOff x="5715000" y="1143000"/>
            <a:chExt cx="1703520" cy="328680"/>
          </a:xfrm>
        </p:grpSpPr>
        <p:sp>
          <p:nvSpPr>
            <p:cNvPr id="381" name=""/>
            <p:cNvSpPr/>
            <p:nvPr/>
          </p:nvSpPr>
          <p:spPr>
            <a:xfrm>
              <a:off x="5715000" y="11430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67280" y="11430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19920" y="11430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2200" y="11430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24480" y="11430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15000" y="13716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67280" y="13716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19920" y="13716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72200" y="13716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324480" y="13716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05720" y="11430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58000" y="11430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10280" y="11430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62920" y="11430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15200" y="11430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705720" y="13716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858000" y="13716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0280" y="13716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62920" y="13716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15200" y="13716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715000" y="1600200"/>
            <a:ext cx="1703520" cy="328680"/>
            <a:chOff x="5715000" y="1600200"/>
            <a:chExt cx="1703520" cy="328680"/>
          </a:xfrm>
        </p:grpSpPr>
        <p:sp>
          <p:nvSpPr>
            <p:cNvPr id="402" name=""/>
            <p:cNvSpPr/>
            <p:nvPr/>
          </p:nvSpPr>
          <p:spPr>
            <a:xfrm>
              <a:off x="5715000" y="16002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67280" y="16002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19920" y="16002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72200" y="16002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324480" y="16002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15000" y="18288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67280" y="18288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19920" y="18288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72200" y="18288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24480" y="18288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05720" y="16002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58000" y="16002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10280" y="16002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62920" y="16002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15200" y="16002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705720" y="18288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58000" y="18288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10280" y="18288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162920" y="18288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15200" y="182880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715000" y="2133720"/>
            <a:ext cx="1703520" cy="328680"/>
            <a:chOff x="5715000" y="2133720"/>
            <a:chExt cx="1703520" cy="328680"/>
          </a:xfrm>
        </p:grpSpPr>
        <p:sp>
          <p:nvSpPr>
            <p:cNvPr id="423" name=""/>
            <p:cNvSpPr/>
            <p:nvPr/>
          </p:nvSpPr>
          <p:spPr>
            <a:xfrm>
              <a:off x="5715000" y="213372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67280" y="213372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019920" y="213372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72200" y="213372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24480" y="213372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15000" y="236232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67280" y="236232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19920" y="236232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172200" y="236232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24480" y="236232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05720" y="213372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58000" y="213372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10280" y="213372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162920" y="213372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315200" y="213372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05720" y="236232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58000" y="236232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10280" y="236232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62920" y="236232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15200" y="2362320"/>
              <a:ext cx="103320" cy="10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 txBox="1"/>
          <p:nvPr/>
        </p:nvSpPr>
        <p:spPr>
          <a:xfrm>
            <a:off x="289080" y="24912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5622840" y="249120"/>
            <a:ext cx="735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5622840" y="423720"/>
            <a:ext cx="804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/W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622840" y="957240"/>
            <a:ext cx="571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5622840" y="1947960"/>
            <a:ext cx="431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80880" y="482760"/>
            <a:ext cx="5029560" cy="1981080"/>
            <a:chOff x="380880" y="482760"/>
            <a:chExt cx="5029560" cy="1981080"/>
          </a:xfrm>
        </p:grpSpPr>
        <p:sp>
          <p:nvSpPr>
            <p:cNvPr id="449" name=""/>
            <p:cNvSpPr/>
            <p:nvPr/>
          </p:nvSpPr>
          <p:spPr>
            <a:xfrm>
              <a:off x="380880" y="482760"/>
              <a:ext cx="5029200" cy="1981080"/>
            </a:xfrm>
            <a:prstGeom prst="rect">
              <a:avLst/>
            </a:prstGeom>
            <a:blipFill rotWithShape="0">
              <a:blip r:embed="rId2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380880" y="482760"/>
              <a:ext cx="5029560" cy="1981080"/>
              <a:chOff x="380880" y="482760"/>
              <a:chExt cx="5029560" cy="1981080"/>
            </a:xfrm>
          </p:grpSpPr>
          <p:sp>
            <p:nvSpPr>
              <p:cNvPr id="451" name=""/>
              <p:cNvSpPr/>
              <p:nvPr/>
            </p:nvSpPr>
            <p:spPr>
              <a:xfrm>
                <a:off x="380880" y="48276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057400" y="48276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33920" y="48276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80880" y="63504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057400" y="63504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33920" y="63504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80880" y="78732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057400" y="78732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733920" y="78732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80880" y="93996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057400" y="93996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733920" y="93996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80880" y="109224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057400" y="109224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733920" y="109224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0880" y="124452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057400" y="124452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733920" y="124452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80880" y="139716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057400" y="139716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733920" y="139716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80880" y="154944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057400" y="154944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733920" y="154944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80880" y="170172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057400" y="170172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733920" y="170172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80880" y="185436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057400" y="185436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33920" y="185436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0880" y="200664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057400" y="200664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733920" y="200664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80880" y="215892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057400" y="215892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733920" y="215892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80880" y="231156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057400" y="231156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733920" y="2311560"/>
                <a:ext cx="1676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0" name=""/>
          <p:cNvSpPr txBox="1"/>
          <p:nvPr/>
        </p:nvSpPr>
        <p:spPr>
          <a:xfrm>
            <a:off x="365040" y="449280"/>
            <a:ext cx="1754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                Location     W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041560" y="449280"/>
            <a:ext cx="1754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                Location     W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718080" y="449280"/>
            <a:ext cx="1754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                Location     W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289080" y="2535120"/>
            <a:ext cx="912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270160" y="2535120"/>
            <a:ext cx="776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62320" y="2743200"/>
            <a:ext cx="167652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62320" y="3657600"/>
            <a:ext cx="167652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2743200"/>
            <a:ext cx="3352680" cy="1828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295360" y="2712960"/>
            <a:ext cx="55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2295360" y="3627360"/>
            <a:ext cx="55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971880" y="2712960"/>
            <a:ext cx="1255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Valu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04812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114800" y="320040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114800" y="33526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114800" y="350532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114800" y="365760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14800" y="3809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14800" y="396252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411480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42670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114800" y="441972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289080" y="4554360"/>
            <a:ext cx="5391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ellaneous Information (Magical Items, Command Words, Small Map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80880" y="4800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4952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51055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80880" y="5257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0880" y="54100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80880" y="5562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0880" y="5715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80880" y="58672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0880" y="6019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80880" y="61722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63244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6477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0880" y="6629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6781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0880" y="6934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0880" y="7086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0880" y="7238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0880" y="73915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0880" y="7543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80880" y="76960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80880" y="7848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880" y="8001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80880" y="81532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0880" y="8305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0880" y="84582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2362320" y="4800600"/>
            <a:ext cx="5029200" cy="3657600"/>
            <a:chOff x="2362320" y="4800600"/>
            <a:chExt cx="5029200" cy="3657600"/>
          </a:xfrm>
        </p:grpSpPr>
        <p:grpSp>
          <p:nvGrpSpPr>
            <p:cNvPr id="538" name=""/>
            <p:cNvGrpSpPr/>
            <p:nvPr/>
          </p:nvGrpSpPr>
          <p:grpSpPr>
            <a:xfrm>
              <a:off x="2362320" y="4800600"/>
              <a:ext cx="5029200" cy="333360"/>
              <a:chOff x="2362320" y="4800600"/>
              <a:chExt cx="5029200" cy="333360"/>
            </a:xfrm>
          </p:grpSpPr>
          <p:sp>
            <p:nvSpPr>
              <p:cNvPr id="539" name=""/>
              <p:cNvSpPr/>
              <p:nvPr/>
            </p:nvSpPr>
            <p:spPr>
              <a:xfrm>
                <a:off x="2362320" y="48006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676600" y="48006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990880" y="48006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05160" y="48006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619440" y="48006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933720" y="48006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248000" y="48006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562640" y="48006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876920" y="48006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91200" y="48006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505480" y="48006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819760" y="48006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34040" y="48006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448320" y="48006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762600" y="48006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077240" y="48006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2362320" y="5133960"/>
              <a:ext cx="5029200" cy="330120"/>
              <a:chOff x="2362320" y="5133960"/>
              <a:chExt cx="5029200" cy="330120"/>
            </a:xfrm>
          </p:grpSpPr>
          <p:sp>
            <p:nvSpPr>
              <p:cNvPr id="556" name=""/>
              <p:cNvSpPr/>
              <p:nvPr/>
            </p:nvSpPr>
            <p:spPr>
              <a:xfrm>
                <a:off x="2362320" y="51339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676600" y="51339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990880" y="51339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305160" y="51339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619440" y="51339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933720" y="51339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248000" y="51339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562640" y="51339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876920" y="51339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191200" y="51339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505480" y="51339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819760" y="51339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134040" y="51339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48320" y="51339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762600" y="51339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77240" y="51339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2362320" y="5464080"/>
              <a:ext cx="5029200" cy="333360"/>
              <a:chOff x="2362320" y="5464080"/>
              <a:chExt cx="5029200" cy="333360"/>
            </a:xfrm>
          </p:grpSpPr>
          <p:sp>
            <p:nvSpPr>
              <p:cNvPr id="573" name=""/>
              <p:cNvSpPr/>
              <p:nvPr/>
            </p:nvSpPr>
            <p:spPr>
              <a:xfrm>
                <a:off x="2362320" y="546408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676600" y="546408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990880" y="546408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305160" y="546408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619440" y="546408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933720" y="546408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248000" y="546408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562640" y="546408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876920" y="546408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191200" y="546408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505480" y="546408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819760" y="546408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34040" y="546408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448320" y="546408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762600" y="546408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077240" y="546408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2362320" y="5797440"/>
              <a:ext cx="5029200" cy="333360"/>
              <a:chOff x="2362320" y="5797440"/>
              <a:chExt cx="5029200" cy="333360"/>
            </a:xfrm>
          </p:grpSpPr>
          <p:sp>
            <p:nvSpPr>
              <p:cNvPr id="590" name=""/>
              <p:cNvSpPr/>
              <p:nvPr/>
            </p:nvSpPr>
            <p:spPr>
              <a:xfrm>
                <a:off x="2362320" y="57974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676600" y="57974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990880" y="57974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305160" y="57974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619440" y="57974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933720" y="57974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248000" y="57974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562640" y="57974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876920" y="57974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191200" y="57974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505480" y="57974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19760" y="57974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134040" y="57974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448320" y="57974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762600" y="57974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077240" y="57974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2362320" y="6130800"/>
              <a:ext cx="5029200" cy="333360"/>
              <a:chOff x="2362320" y="6130800"/>
              <a:chExt cx="5029200" cy="333360"/>
            </a:xfrm>
          </p:grpSpPr>
          <p:sp>
            <p:nvSpPr>
              <p:cNvPr id="607" name=""/>
              <p:cNvSpPr/>
              <p:nvPr/>
            </p:nvSpPr>
            <p:spPr>
              <a:xfrm>
                <a:off x="2362320" y="61308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76600" y="61308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990880" y="61308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305160" y="61308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619440" y="61308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933720" y="61308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248000" y="61308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562640" y="61308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876920" y="61308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191200" y="61308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505480" y="61308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819760" y="61308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134040" y="61308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448320" y="61308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762600" y="61308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77240" y="61308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362320" y="6464160"/>
              <a:ext cx="5029200" cy="330120"/>
              <a:chOff x="2362320" y="6464160"/>
              <a:chExt cx="5029200" cy="330120"/>
            </a:xfrm>
          </p:grpSpPr>
          <p:sp>
            <p:nvSpPr>
              <p:cNvPr id="624" name=""/>
              <p:cNvSpPr/>
              <p:nvPr/>
            </p:nvSpPr>
            <p:spPr>
              <a:xfrm>
                <a:off x="2362320" y="64641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676600" y="64641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990880" y="64641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305160" y="64641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619440" y="64641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933720" y="64641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48000" y="64641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62640" y="64641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876920" y="64641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91200" y="64641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505480" y="64641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819760" y="64641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134040" y="64641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448320" y="64641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762600" y="64641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077240" y="646416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2362320" y="6794640"/>
              <a:ext cx="5029200" cy="333360"/>
              <a:chOff x="2362320" y="6794640"/>
              <a:chExt cx="5029200" cy="333360"/>
            </a:xfrm>
          </p:grpSpPr>
          <p:sp>
            <p:nvSpPr>
              <p:cNvPr id="641" name=""/>
              <p:cNvSpPr/>
              <p:nvPr/>
            </p:nvSpPr>
            <p:spPr>
              <a:xfrm>
                <a:off x="2362320" y="67946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676600" y="67946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990880" y="67946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305160" y="67946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619440" y="67946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933720" y="67946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248000" y="67946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562640" y="67946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876920" y="67946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191200" y="67946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505480" y="67946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819760" y="67946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134040" y="67946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448320" y="67946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762600" y="67946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77240" y="67946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2362320" y="7128000"/>
              <a:ext cx="5029200" cy="333360"/>
              <a:chOff x="2362320" y="7128000"/>
              <a:chExt cx="5029200" cy="333360"/>
            </a:xfrm>
          </p:grpSpPr>
          <p:sp>
            <p:nvSpPr>
              <p:cNvPr id="658" name=""/>
              <p:cNvSpPr/>
              <p:nvPr/>
            </p:nvSpPr>
            <p:spPr>
              <a:xfrm>
                <a:off x="2362320" y="71280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676600" y="71280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90880" y="71280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305160" y="71280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619440" y="71280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933720" y="71280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248000" y="71280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62640" y="71280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876920" y="71280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191200" y="71280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505480" y="71280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819760" y="71280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134040" y="71280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448320" y="71280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762600" y="71280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77240" y="712800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2362320" y="7461360"/>
              <a:ext cx="5029200" cy="333360"/>
              <a:chOff x="2362320" y="7461360"/>
              <a:chExt cx="5029200" cy="333360"/>
            </a:xfrm>
          </p:grpSpPr>
          <p:sp>
            <p:nvSpPr>
              <p:cNvPr id="675" name=""/>
              <p:cNvSpPr/>
              <p:nvPr/>
            </p:nvSpPr>
            <p:spPr>
              <a:xfrm>
                <a:off x="2362320" y="746136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676600" y="746136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990880" y="746136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305160" y="746136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619440" y="746136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933720" y="746136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248000" y="746136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562640" y="746136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876920" y="746136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191200" y="746136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505480" y="746136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819760" y="746136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134040" y="746136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448320" y="746136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762600" y="746136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77240" y="746136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2362320" y="7794720"/>
              <a:ext cx="5029200" cy="330120"/>
              <a:chOff x="2362320" y="7794720"/>
              <a:chExt cx="5029200" cy="330120"/>
            </a:xfrm>
          </p:grpSpPr>
          <p:sp>
            <p:nvSpPr>
              <p:cNvPr id="692" name=""/>
              <p:cNvSpPr/>
              <p:nvPr/>
            </p:nvSpPr>
            <p:spPr>
              <a:xfrm>
                <a:off x="2362320" y="779472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676600" y="779472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90880" y="779472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305160" y="779472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619440" y="779472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933720" y="779472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248000" y="779472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562640" y="779472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876920" y="779472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91200" y="779472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505480" y="779472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819760" y="779472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134040" y="779472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448320" y="779472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762600" y="779472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77240" y="7794720"/>
                <a:ext cx="314280" cy="33012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2362320" y="8124840"/>
              <a:ext cx="5029200" cy="333360"/>
              <a:chOff x="2362320" y="8124840"/>
              <a:chExt cx="5029200" cy="333360"/>
            </a:xfrm>
          </p:grpSpPr>
          <p:sp>
            <p:nvSpPr>
              <p:cNvPr id="709" name=""/>
              <p:cNvSpPr/>
              <p:nvPr/>
            </p:nvSpPr>
            <p:spPr>
              <a:xfrm>
                <a:off x="2362320" y="81248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676600" y="81248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990880" y="81248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305160" y="81248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619440" y="81248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933720" y="81248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248000" y="81248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562640" y="81248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876920" y="81248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191200" y="81248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505480" y="81248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819760" y="81248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134040" y="81248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448320" y="81248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62600" y="81248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77240" y="8124840"/>
                <a:ext cx="314280" cy="333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"/>
          <p:cNvSpPr/>
          <p:nvPr/>
        </p:nvSpPr>
        <p:spPr>
          <a:xfrm>
            <a:off x="228600" y="228600"/>
            <a:ext cx="7315200" cy="9601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380880" y="8686800"/>
            <a:ext cx="7010640" cy="1066680"/>
            <a:chOff x="380880" y="8686800"/>
            <a:chExt cx="7010640" cy="1066680"/>
          </a:xfrm>
        </p:grpSpPr>
        <p:sp>
          <p:nvSpPr>
            <p:cNvPr id="727" name=""/>
            <p:cNvSpPr/>
            <p:nvPr/>
          </p:nvSpPr>
          <p:spPr>
            <a:xfrm>
              <a:off x="380880" y="8686800"/>
              <a:ext cx="7010280" cy="1066680"/>
            </a:xfrm>
            <a:prstGeom prst="rect">
              <a:avLst/>
            </a:prstGeom>
            <a:blipFill rotWithShape="0">
              <a:blip r:embed="rId3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0880" y="8686800"/>
              <a:ext cx="7010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0880" y="8991720"/>
              <a:ext cx="7010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880" y="9296280"/>
              <a:ext cx="7010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0880" y="9601200"/>
              <a:ext cx="7010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380880" y="8839080"/>
              <a:ext cx="7010640" cy="152280"/>
              <a:chOff x="380880" y="8839080"/>
              <a:chExt cx="7010640" cy="152280"/>
            </a:xfrm>
          </p:grpSpPr>
          <p:sp>
            <p:nvSpPr>
              <p:cNvPr id="733" name=""/>
              <p:cNvSpPr/>
              <p:nvPr/>
            </p:nvSpPr>
            <p:spPr>
              <a:xfrm>
                <a:off x="380880" y="8839080"/>
                <a:ext cx="182880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209680" y="8839080"/>
                <a:ext cx="22860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438280" y="8839080"/>
                <a:ext cx="10666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505320" y="8839080"/>
                <a:ext cx="533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038480" y="8839080"/>
                <a:ext cx="22860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67080" y="8839080"/>
                <a:ext cx="3808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648320" y="8839080"/>
                <a:ext cx="114300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248520" y="8839080"/>
                <a:ext cx="114300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791320" y="8839080"/>
                <a:ext cx="45720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380880" y="9144000"/>
              <a:ext cx="7010640" cy="152280"/>
              <a:chOff x="380880" y="9144000"/>
              <a:chExt cx="7010640" cy="152280"/>
            </a:xfrm>
          </p:grpSpPr>
          <p:sp>
            <p:nvSpPr>
              <p:cNvPr id="743" name=""/>
              <p:cNvSpPr/>
              <p:nvPr/>
            </p:nvSpPr>
            <p:spPr>
              <a:xfrm>
                <a:off x="380880" y="9144000"/>
                <a:ext cx="182880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209680" y="9144000"/>
                <a:ext cx="22860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438280" y="9144000"/>
                <a:ext cx="10666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505320" y="9144000"/>
                <a:ext cx="533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038480" y="9144000"/>
                <a:ext cx="22860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267080" y="9144000"/>
                <a:ext cx="3808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648320" y="9144000"/>
                <a:ext cx="114300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248520" y="9144000"/>
                <a:ext cx="114300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791320" y="9144000"/>
                <a:ext cx="45720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380880" y="9448920"/>
              <a:ext cx="7010640" cy="152280"/>
              <a:chOff x="380880" y="9448920"/>
              <a:chExt cx="7010640" cy="152280"/>
            </a:xfrm>
          </p:grpSpPr>
          <p:sp>
            <p:nvSpPr>
              <p:cNvPr id="753" name=""/>
              <p:cNvSpPr/>
              <p:nvPr/>
            </p:nvSpPr>
            <p:spPr>
              <a:xfrm>
                <a:off x="380880" y="9448920"/>
                <a:ext cx="182880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209680" y="9448920"/>
                <a:ext cx="22860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438280" y="9448920"/>
                <a:ext cx="10666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05320" y="9448920"/>
                <a:ext cx="53352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038480" y="9448920"/>
                <a:ext cx="22860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67080" y="9448920"/>
                <a:ext cx="3808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648320" y="9448920"/>
                <a:ext cx="114300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248520" y="9448920"/>
                <a:ext cx="114300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791320" y="9448920"/>
                <a:ext cx="45720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2" name=""/>
          <p:cNvSpPr txBox="1"/>
          <p:nvPr/>
        </p:nvSpPr>
        <p:spPr>
          <a:xfrm>
            <a:off x="289080" y="8478720"/>
            <a:ext cx="22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hmen/Animal Comp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365040" y="8653320"/>
            <a:ext cx="6915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                                              AC        Race/Class          HD/Lvl   #AT THAC0      Dmg/Effects            hp           Skills/Ab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365040" y="8958240"/>
            <a:ext cx="804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65040" y="9263160"/>
            <a:ext cx="804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365040" y="9567720"/>
            <a:ext cx="804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62320" y="4800600"/>
            <a:ext cx="5029200" cy="3657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arles Powell (Arcana)</dc:creator>
  <dc:description/>
  <dc:language>en-US</dc:language>
  <cp:lastModifiedBy>Charles Powell (Arcana)</cp:lastModifiedBy>
  <cp:revision>0</cp:revision>
  <dc:subject/>
  <dc:title>No Slide Title</dc:title>
</cp:coreProperties>
</file>